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GUNSHOT.WAV" ContentType="audio/x-wav"/>
  <Override PartName="/ppt/media/highchime.wav" ContentType="audio/x-wav"/>
  <Override PartName="/ppt/media/zapbig0g.wav" ContentType="audio/x-wav"/>
  <Override PartName="/ppt/media/jetflyby2.wav" ContentType="audio/x-wav"/>
  <Override PartName="/ppt/media/bserie06.wav" ContentType="audio/x-wav"/>
  <Override PartName="/ppt/media/caralarmoff.wav" ContentType="audio/x-wav"/>
  <Override PartName="/ppt/media/EXPLODE.WAV" ContentType="audio/x-wav"/>
  <Override PartName="/ppt/media/PROJCTOR.WAV" ContentType="audio/x-wav"/>
  <Override PartName="/ppt/media/CHIMES.WAV" ContentType="audio/x-wav"/>
  <Override PartName="/ppt/media/LASER.WAV" ContentType="audio/x-wav"/>
  <Override PartName="/ppt/media/DRIVEBY.WAV" ContentType="audio/x-wav"/>
  <Override PartName="/ppt/media/CARBRAKE.WAV" ContentType="audio/x-wav"/>
  <Override PartName="/ppt/media/WHOOSH.WAV" ContentType="audio/x-wav"/>
  <Override PartName="/ppt/media/RICOCHET.WAV" ContentType="audio/x-wav"/>
  <Override PartName="/ppt/media/CASHREG.WAV" ContentType="audio/x-wav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BF3-E71B-4586-808C-DBDD4136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B15-9101-4853-88CA-0E3BE48D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FDF-3145-4C7D-9657-37AD8075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BD8-23AC-443A-87F1-F0AE5942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9D4-79AB-48FE-89A9-B96E7151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9EB-465E-404E-AEC3-4C972B5A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387-4FEF-42D6-9550-9648585C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EFD-792E-4D91-A47F-F7650AC8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B3E-B4DE-4314-9486-B64801DB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64B-8CA3-4E64-A265-90810C7D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897-C859-4A76-879F-35AB2269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63A-DF33-445D-AE8C-93F7CA24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FCAA-0BC6-48FF-9112-4E21D07D6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audio" Target="../media/caralarmoff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DRIVEBY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DRIVEBY.WAV"/><Relationship Id="rId12" Type="http://schemas.openxmlformats.org/officeDocument/2006/relationships/audio" Target="../media/CHIMES.WAV"/><Relationship Id="rId13" Type="http://schemas.openxmlformats.org/officeDocument/2006/relationships/audio" Target="../media/LASER.WAV"/><Relationship Id="rId14" Type="http://schemas.openxmlformats.org/officeDocument/2006/relationships/audio" Target="../media/DRIVEBY.WAV"/><Relationship Id="rId15" Type="http://schemas.openxmlformats.org/officeDocument/2006/relationships/audio" Target="../media/RICOCHET.WAV"/><Relationship Id="rId16" Type="http://schemas.openxmlformats.org/officeDocument/2006/relationships/audio" Target="../media/EXPLODE.WAV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LASER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caralarmoff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BRAKE.WAV"/><Relationship Id="rId3" Type="http://schemas.openxmlformats.org/officeDocument/2006/relationships/audio" Target="../media/EXPLOD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GUNSHOT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LASER.WAV"/><Relationship Id="rId8" Type="http://schemas.openxmlformats.org/officeDocument/2006/relationships/audio" Target="../media/bserie06.wav"/><Relationship Id="rId9" Type="http://schemas.openxmlformats.org/officeDocument/2006/relationships/audio" Target="../media/LASER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CASHREG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PROJCTOR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EXPLODE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EXPLODE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EXPLODE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ASHREG.WAV"/><Relationship Id="rId26" Type="http://schemas.openxmlformats.org/officeDocument/2006/relationships/audio" Target="../media/EXPLODE.WAV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EXPLODE.WAV"/><Relationship Id="rId15" Type="http://schemas.openxmlformats.org/officeDocument/2006/relationships/audio" Target="../media/EXPLODE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rot="10800000">
            <a:off x="1447920" y="3809880"/>
            <a:ext cx="3504960" cy="1524240"/>
          </a:xfrm>
          <a:prstGeom prst="parallelogram">
            <a:avLst>
              <a:gd name="adj" fmla="val 599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447920" y="3809880"/>
            <a:ext cx="3504960" cy="1524240"/>
            <a:chOff x="1447920" y="3809880"/>
            <a:chExt cx="3504960" cy="1524240"/>
          </a:xfrm>
        </p:grpSpPr>
        <p:sp>
          <p:nvSpPr>
            <p:cNvPr id="43" name=""/>
            <p:cNvSpPr/>
            <p:nvPr/>
          </p:nvSpPr>
          <p:spPr>
            <a:xfrm flipH="1">
              <a:off x="1447920" y="533412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1447920" y="3809880"/>
              <a:ext cx="0" cy="1524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7920" y="3809880"/>
              <a:ext cx="3504960" cy="1524240"/>
            </a:xfrm>
            <a:custGeom>
              <a:avLst/>
              <a:gdLst/>
              <a:ahLst/>
              <a:rect l="l" t="t" r="r" b="b"/>
              <a:pathLst>
                <a:path w="2208" h="960">
                  <a:moveTo>
                    <a:pt x="0" y="0"/>
                  </a:moveTo>
                  <a:lnTo>
                    <a:pt x="576" y="960"/>
                  </a:lnTo>
                  <a:lnTo>
                    <a:pt x="2208" y="9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200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38080" y="1523880"/>
            <a:ext cx="2286000" cy="1752480"/>
            <a:chOff x="838080" y="1523880"/>
            <a:chExt cx="2286000" cy="1752480"/>
          </a:xfrm>
        </p:grpSpPr>
        <p:sp>
          <p:nvSpPr>
            <p:cNvPr id="50" name=""/>
            <p:cNvSpPr/>
            <p:nvPr/>
          </p:nvSpPr>
          <p:spPr>
            <a:xfrm>
              <a:off x="838080" y="1523880"/>
              <a:ext cx="2286000" cy="175248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81080" y="152388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886200" y="1523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t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/>
          <p:nvPr/>
        </p:nvCxnSpPr>
        <p:spPr>
          <a:xfrm flipV="1" rot="10800000">
            <a:off x="1980360" y="1828440"/>
            <a:ext cx="1905840" cy="673920"/>
          </a:xfrm>
          <a:prstGeom prst="curvedConnector5">
            <a:avLst>
              <a:gd name="adj1" fmla="val 40997"/>
              <a:gd name="adj2" fmla="val 49973"/>
              <a:gd name="adj3" fmla="val 4099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791320" y="1523880"/>
            <a:ext cx="2133360" cy="2133720"/>
          </a:xfrm>
          <a:prstGeom prst="rtTriangl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581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4" idx="1"/>
          </p:cNvCxnSpPr>
          <p:nvPr/>
        </p:nvCxnSpPr>
        <p:spPr>
          <a:xfrm>
            <a:off x="4552560" y="1981080"/>
            <a:ext cx="1239120" cy="610200"/>
          </a:xfrm>
          <a:prstGeom prst="curvedConnector3">
            <a:avLst>
              <a:gd name="adj1" fmla="val 2385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2895480" y="5257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/>
          <p:nvPr/>
        </p:nvCxnSpPr>
        <p:spPr>
          <a:xfrm flipV="1" rot="10800000">
            <a:off x="1447200" y="1980000"/>
            <a:ext cx="3048480" cy="2763000"/>
          </a:xfrm>
          <a:prstGeom prst="curvedConnector5">
            <a:avLst>
              <a:gd name="adj1" fmla="val 3743"/>
              <a:gd name="adj2" fmla="val 50000"/>
              <a:gd name="adj3" fmla="val 374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59" name=""/>
          <p:cNvGraphicFramePr/>
          <p:nvPr/>
        </p:nvGraphicFramePr>
        <p:xfrm>
          <a:off x="1752480" y="5637240"/>
          <a:ext cx="579132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637240"/>
                    <a:ext cx="579132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09560" y="1646280"/>
            <a:ext cx="3732120" cy="1538280"/>
          </a:xfrm>
          <a:custGeom>
            <a:avLst/>
            <a:gdLst>
              <a:gd name="textAreaLeft" fmla="*/ 820800 w 3732120"/>
              <a:gd name="textAreaRight" fmla="*/ 2911680 w 3732120"/>
              <a:gd name="textAreaTop" fmla="*/ 338040 h 1538280"/>
              <a:gd name="textAreaBottom" fmla="*/ 1200240 h 15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403880" y="2585880"/>
                <a:ext cx="45799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apezoid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440" y="1627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10120" y="28051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14960" y="521820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15 in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52760" y="1657440"/>
            <a:ext cx="2887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62040" y="21718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82680" y="314172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22360" y="12366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7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22760" y="4189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470480" y="1373040"/>
                <a:ext cx="393372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6800760" y="28004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4840" y="27925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13440" y="4162320"/>
            <a:ext cx="12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 3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652760" y="1642680"/>
            <a:ext cx="0" cy="1539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60880" y="14619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6320" y="148284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rot="5400000">
            <a:off x="1034280" y="1292040"/>
            <a:ext cx="2513160" cy="2741400"/>
          </a:xfrm>
          <a:custGeom>
            <a:avLst/>
            <a:gdLst>
              <a:gd name="textAreaLeft" fmla="*/ 552600 w 2513160"/>
              <a:gd name="textAreaRight" fmla="*/ 1960560 w 2513160"/>
              <a:gd name="textAreaTop" fmla="*/ 602640 h 2741400"/>
              <a:gd name="textAreaBottom" fmla="*/ 2138760 h 27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403880" y="2585880"/>
                <a:ext cx="45799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apezoid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440" y="1627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10120" y="28051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14960" y="521820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63 ft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3379320" y="2049480"/>
            <a:ext cx="28908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81360" y="201312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9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9440" y="243036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3040" y="24130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4189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70480" y="1373040"/>
                <a:ext cx="393372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6800760" y="28004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54840" y="27925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3440" y="4162320"/>
            <a:ext cx="12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 9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42840" y="2049480"/>
            <a:ext cx="2700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60720" y="3024360"/>
            <a:ext cx="0" cy="977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0720" y="1390680"/>
            <a:ext cx="0" cy="93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830840" y="5111640"/>
                <a:ext cx="24588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 A triangle and a parallelogram both have areas of 20 cm</a:t>
            </a:r>
            <a:r>
              <a:rPr b="1" lang="en-US" sz="29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bases of 5 cm. What do you know about the heights?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71840" y="2141640"/>
            <a:ext cx="309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20 cm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6120" y="4381560"/>
            <a:ext cx="9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5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08480" y="4322880"/>
            <a:ext cx="11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5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911160" y="4832280"/>
                <a:ext cx="278460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1278000" y="2265480"/>
            <a:ext cx="2438280" cy="2119320"/>
          </a:xfrm>
          <a:prstGeom prst="triangle">
            <a:avLst>
              <a:gd name="adj" fmla="val 50000"/>
            </a:avLst>
          </a:prstGeom>
          <a:solidFill>
            <a:srgbClr val="ffcccc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84520" y="3178080"/>
            <a:ext cx="3295800" cy="1174680"/>
          </a:xfrm>
          <a:prstGeom prst="parallelogram">
            <a:avLst>
              <a:gd name="adj" fmla="val 70143"/>
            </a:avLst>
          </a:prstGeom>
          <a:solidFill>
            <a:srgbClr val="ffcccc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346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The height of the triangle is twice that of the parallelog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9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0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447920" y="4952880"/>
                <a:ext cx="51814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area of each tri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85800" y="1981080"/>
            <a:ext cx="7238880" cy="1679040"/>
            <a:chOff x="685800" y="1981080"/>
            <a:chExt cx="7238880" cy="1679040"/>
          </a:xfrm>
        </p:grpSpPr>
        <p:sp>
          <p:nvSpPr>
            <p:cNvPr id="66" name=""/>
            <p:cNvSpPr/>
            <p:nvPr/>
          </p:nvSpPr>
          <p:spPr>
            <a:xfrm>
              <a:off x="685800" y="2057400"/>
              <a:ext cx="7238880" cy="114300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1981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43400" y="20574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52680" y="3200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2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3400" y="2514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38680" y="2133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720" y="2209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61960" y="3733920"/>
                <a:ext cx="54975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038480" y="396252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8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39625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1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48769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4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48769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1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5715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5715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ft</a:t>
            </a:r>
            <a:r>
              <a:rPr b="1" lang="en-US" sz="3600" spc="-1" strike="noStrike" baseline="60000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447920" y="5791320"/>
                <a:ext cx="1981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1905120"/>
            <a:ext cx="5029200" cy="2438280"/>
          </a:xfrm>
          <a:custGeom>
            <a:avLst/>
            <a:gdLst>
              <a:gd name="textAreaLeft" fmla="*/ 1105920 w 5029200"/>
              <a:gd name="textAreaRight" fmla="*/ 3923280 w 5029200"/>
              <a:gd name="textAreaTop" fmla="*/ 536040 h 2438280"/>
              <a:gd name="textAreaBottom" fmla="*/ 190224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495680" y="1905120"/>
            <a:ext cx="1447920" cy="2438280"/>
            <a:chOff x="4495680" y="1905120"/>
            <a:chExt cx="1447920" cy="2438280"/>
          </a:xfrm>
        </p:grpSpPr>
        <p:sp>
          <p:nvSpPr>
            <p:cNvPr id="85" name=""/>
            <p:cNvSpPr/>
            <p:nvPr/>
          </p:nvSpPr>
          <p:spPr>
            <a:xfrm>
              <a:off x="4495680" y="27432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ltitu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95680" y="190512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657600" y="1447920"/>
            <a:ext cx="1828800" cy="3339720"/>
            <a:chOff x="3657600" y="1447920"/>
            <a:chExt cx="1828800" cy="3339720"/>
          </a:xfrm>
        </p:grpSpPr>
        <p:sp>
          <p:nvSpPr>
            <p:cNvPr id="88" name=""/>
            <p:cNvSpPr/>
            <p:nvPr/>
          </p:nvSpPr>
          <p:spPr>
            <a:xfrm>
              <a:off x="3657600" y="42670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ase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3920" y="1447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ase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0" y="4786200"/>
                <a:ext cx="914400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height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ase 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ase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1752480"/>
            <a:ext cx="3962520" cy="3886200"/>
            <a:chOff x="0" y="1752480"/>
            <a:chExt cx="3962520" cy="3886200"/>
          </a:xfrm>
        </p:grpSpPr>
        <p:sp>
          <p:nvSpPr>
            <p:cNvPr id="94" name=""/>
            <p:cNvSpPr/>
            <p:nvPr/>
          </p:nvSpPr>
          <p:spPr>
            <a:xfrm rot="5400000">
              <a:off x="151920" y="2743200"/>
              <a:ext cx="3733560" cy="2057400"/>
            </a:xfrm>
            <a:custGeom>
              <a:avLst/>
              <a:gdLst>
                <a:gd name="textAreaLeft" fmla="*/ 820800 w 3733560"/>
                <a:gd name="textAreaRight" fmla="*/ 2912760 w 3733560"/>
                <a:gd name="textAreaTop" fmla="*/ 452160 h 2057400"/>
                <a:gd name="textAreaBottom" fmla="*/ 160524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17524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90720" y="38098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3880" y="3352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1981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7920" y="5105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581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5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8120" y="3581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5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01960" y="1712880"/>
                <a:ext cx="51102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486400" y="19051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7840" y="19051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59880" y="19191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5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843360" y="2671920"/>
                <a:ext cx="385596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954600" y="3916440"/>
                <a:ext cx="34448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648320" y="44956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=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44956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in</a:t>
            </a:r>
            <a:r>
              <a:rPr b="1" lang="en-US" sz="3600" spc="-1" strike="noStrike" baseline="60000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64080" y="2927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03840" y="2900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2240" y="39243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86400" y="3917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0" y="5472000"/>
                <a:ext cx="914400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height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ase 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ase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0880" y="1523880"/>
            <a:ext cx="7620120" cy="2441160"/>
            <a:chOff x="380880" y="1523880"/>
            <a:chExt cx="7620120" cy="2441160"/>
          </a:xfrm>
        </p:grpSpPr>
        <p:sp>
          <p:nvSpPr>
            <p:cNvPr id="118" name=""/>
            <p:cNvSpPr/>
            <p:nvPr/>
          </p:nvSpPr>
          <p:spPr>
            <a:xfrm>
              <a:off x="1066680" y="2057400"/>
              <a:ext cx="2971800" cy="14479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38480" y="2057400"/>
              <a:ext cx="3124440" cy="1447920"/>
            </a:xfrm>
            <a:custGeom>
              <a:avLst/>
              <a:gdLst/>
              <a:ahLst/>
              <a:rect l="l" t="t" r="r" b="b"/>
              <a:pathLst>
                <a:path w="1968" h="912">
                  <a:moveTo>
                    <a:pt x="0" y="912"/>
                  </a:moveTo>
                  <a:lnTo>
                    <a:pt x="1968" y="912"/>
                  </a:lnTo>
                  <a:lnTo>
                    <a:pt x="1968" y="0"/>
                  </a:lnTo>
                  <a:lnTo>
                    <a:pt x="1152" y="0"/>
                  </a:lnTo>
                  <a:lnTo>
                    <a:pt x="0" y="624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99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86200" y="3048120"/>
              <a:ext cx="609480" cy="457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880" y="1676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16765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722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7600" y="3505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62920" y="2438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15238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5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/>
            <p:nvPr/>
          </p:nvCxnSpPr>
          <p:spPr>
            <a:xfrm flipV="1" rot="10800000">
              <a:off x="4037760" y="1904760"/>
              <a:ext cx="991440" cy="800640"/>
            </a:xfrm>
            <a:prstGeom prst="curvedConnector5">
              <a:avLst>
                <a:gd name="adj1" fmla="val 49981"/>
                <a:gd name="adj2" fmla="val 49977"/>
                <a:gd name="adj3" fmla="val 4998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8" name=""/>
          <p:cNvGrpSpPr/>
          <p:nvPr/>
        </p:nvGrpSpPr>
        <p:grpSpPr>
          <a:xfrm>
            <a:off x="1066680" y="2057400"/>
            <a:ext cx="2971800" cy="1447920"/>
            <a:chOff x="1066680" y="2057400"/>
            <a:chExt cx="2971800" cy="1447920"/>
          </a:xfrm>
        </p:grpSpPr>
        <p:sp>
          <p:nvSpPr>
            <p:cNvPr id="129" name=""/>
            <p:cNvSpPr/>
            <p:nvPr/>
          </p:nvSpPr>
          <p:spPr>
            <a:xfrm>
              <a:off x="1066680" y="2057400"/>
              <a:ext cx="2971800" cy="1447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3880" y="22860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2743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=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 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038480" y="2057400"/>
            <a:ext cx="3124440" cy="1447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1968" y="0"/>
                </a:moveTo>
                <a:lnTo>
                  <a:pt x="1968" y="912"/>
                </a:lnTo>
                <a:lnTo>
                  <a:pt x="0" y="912"/>
                </a:lnTo>
                <a:lnTo>
                  <a:pt x="0" y="624"/>
                </a:lnTo>
                <a:lnTo>
                  <a:pt x="1152" y="0"/>
                </a:lnTo>
                <a:lnTo>
                  <a:pt x="1968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2925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0" y="4044960"/>
                <a:ext cx="2967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078520" y="3736800"/>
                <a:ext cx="40654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238400" y="396864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3560" y="401004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0" y="4753080"/>
                <a:ext cx="7701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509840" y="4822920"/>
            <a:ext cx="8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75440" y="4780080"/>
            <a:ext cx="112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1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43720" y="4791240"/>
            <a:ext cx="9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5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15880" y="5950080"/>
                <a:ext cx="41450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724280" y="5867280"/>
            <a:ext cx="206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= 44.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27680" y="5823000"/>
            <a:ext cx="11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yd</a:t>
            </a:r>
            <a:r>
              <a:rPr b="1" lang="en-US" sz="3600" spc="-1" strike="noStrike" baseline="60000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92160" y="5891040"/>
            <a:ext cx="8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10000" y="5897520"/>
            <a:ext cx="12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8.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2320" y="2048040"/>
            <a:ext cx="1290600" cy="1455480"/>
          </a:xfrm>
          <a:prstGeom prst="rect">
            <a:avLst/>
          </a:prstGeom>
          <a:solidFill>
            <a:srgbClr val="ffcc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70720" y="2563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863800" y="4024440"/>
                <a:ext cx="2379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3552840" y="39765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60760" y="39751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73720" y="38973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94600" y="39099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15400" y="39448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1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05240" y="4816440"/>
            <a:ext cx="8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375080" y="2571840"/>
                <a:ext cx="39942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iangle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760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2000" y="2805120"/>
            <a:ext cx="8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64040" y="52578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60 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3600000">
            <a:off x="1378080" y="1133640"/>
            <a:ext cx="2350800" cy="2598480"/>
          </a:xfrm>
          <a:prstGeom prst="triangle">
            <a:avLst>
              <a:gd name="adj" fmla="val 50000"/>
            </a:avLst>
          </a:prstGeom>
          <a:solidFill>
            <a:srgbClr val="ffcc00">
              <a:alpha val="3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426680" y="1802880"/>
            <a:ext cx="2228400" cy="1286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3600000">
            <a:off x="1349280" y="2801520"/>
            <a:ext cx="231840" cy="2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35240" y="153972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3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7840" y="285444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3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9560" y="296388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76200" y="3368160"/>
            <a:ext cx="517680" cy="896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5000" y="2185560"/>
            <a:ext cx="484200" cy="838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71720" y="11476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70" idx="2"/>
          </p:cNvCxnSpPr>
          <p:nvPr/>
        </p:nvCxnSpPr>
        <p:spPr>
          <a:xfrm rot="5400000">
            <a:off x="2775240" y="1680120"/>
            <a:ext cx="600840" cy="450000"/>
          </a:xfrm>
          <a:prstGeom prst="curvedConnector5">
            <a:avLst>
              <a:gd name="adj1" fmla="val 50000"/>
              <a:gd name="adj2" fmla="val 49959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059360" y="408924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5(1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037120" y="1517760"/>
                <a:ext cx="24526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b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7221600" y="2786040"/>
            <a:ext cx="8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375080" y="2571840"/>
                <a:ext cx="39942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iangle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60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83200" y="2819520"/>
            <a:ext cx="12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3.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4000" y="522756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47.6 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6280" y="1743120"/>
            <a:ext cx="3595680" cy="1658880"/>
          </a:xfrm>
          <a:prstGeom prst="triangle">
            <a:avLst>
              <a:gd name="adj" fmla="val 77130"/>
            </a:avLst>
          </a:prstGeom>
          <a:solidFill>
            <a:srgbClr val="ffcc00">
              <a:alpha val="3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0" y="1755720"/>
            <a:ext cx="0" cy="1658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1800" y="3170160"/>
            <a:ext cx="231480" cy="2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2360" y="246708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7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5720" y="3324240"/>
            <a:ext cx="14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3.6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28600" y="222732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86200" y="3562200"/>
            <a:ext cx="109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1640" y="358308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81560" y="2227320"/>
            <a:ext cx="8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59360" y="408924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6.8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037120" y="1517760"/>
                <a:ext cx="24526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b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7264440" y="27860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448160" y="2571840"/>
                <a:ext cx="384804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iangle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760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83200" y="2819520"/>
            <a:ext cx="12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4000" y="522756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36 in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49320" y="1646280"/>
            <a:ext cx="231840" cy="2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71920" y="1231920"/>
            <a:ext cx="7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9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16320" y="238140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7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6280" y="231444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8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55680" y="305424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59360" y="408924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4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037120" y="1517760"/>
                <a:ext cx="24526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b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7207200" y="28004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46080" y="1647720"/>
            <a:ext cx="3251160" cy="1981440"/>
          </a:xfrm>
          <a:custGeom>
            <a:avLst/>
            <a:gdLst/>
            <a:ahLst/>
            <a:rect l="l" t="t" r="r" b="b"/>
            <a:pathLst>
              <a:path w="1584" h="848">
                <a:moveTo>
                  <a:pt x="1584" y="0"/>
                </a:moveTo>
                <a:lnTo>
                  <a:pt x="600" y="0"/>
                </a:lnTo>
                <a:lnTo>
                  <a:pt x="0" y="848"/>
                </a:lnTo>
                <a:lnTo>
                  <a:pt x="1584" y="0"/>
                </a:lnTo>
                <a:close/>
              </a:path>
            </a:pathLst>
          </a:custGeom>
          <a:solidFill>
            <a:srgbClr val="ffffcc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46080" y="1647720"/>
            <a:ext cx="1244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7880" y="1654200"/>
            <a:ext cx="0" cy="1976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03" idx="1"/>
          </p:cNvCxnSpPr>
          <p:nvPr/>
        </p:nvCxnSpPr>
        <p:spPr>
          <a:xfrm>
            <a:off x="1509840" y="2801880"/>
            <a:ext cx="646560" cy="481680"/>
          </a:xfrm>
          <a:prstGeom prst="curvedConnector5">
            <a:avLst>
              <a:gd name="adj1" fmla="val 48857"/>
              <a:gd name="adj2" fmla="val 49962"/>
              <a:gd name="adj3" fmla="val 48857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65200"/>
            <a:ext cx="3409920" cy="1755720"/>
          </a:xfrm>
          <a:custGeom>
            <a:avLst/>
            <a:gdLst/>
            <a:ahLst/>
            <a:rect l="l" t="t" r="r" b="b"/>
            <a:pathLst>
              <a:path w="1883" h="1152">
                <a:moveTo>
                  <a:pt x="0" y="1152"/>
                </a:moveTo>
                <a:lnTo>
                  <a:pt x="1883" y="1152"/>
                </a:lnTo>
                <a:lnTo>
                  <a:pt x="1883" y="0"/>
                </a:lnTo>
                <a:lnTo>
                  <a:pt x="795" y="0"/>
                </a:lnTo>
                <a:lnTo>
                  <a:pt x="0" y="1152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403880" y="2585880"/>
                <a:ext cx="45799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apezoid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360" y="139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10120" y="28051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38640" y="52434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22 c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4320" y="1465200"/>
            <a:ext cx="28872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" y="204480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21240" y="20527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7360" y="31798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7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35320" y="10717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6760" y="41767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470480" y="1373040"/>
                <a:ext cx="393372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800760" y="28004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54840" y="27925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34080" y="411156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 11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5-04-13T18:01:38Z</dcterms:modified>
  <cp:revision>20</cp:revision>
  <dc:subject/>
  <dc:title>No Slide Title</dc:title>
</cp:coreProperties>
</file>